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726-674A-41D3-A9B4-73E61E45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379-C87B-4F3B-A8C4-77703BA5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8DA-52C7-4B2B-AFDC-26E76058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ED3-0595-437F-B079-E98BE523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6BAD-3438-4E6C-B452-8D839EC1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0B13-4DE5-44EC-9C4C-12C457A8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BA7-C32A-4D79-9650-4B42868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9D2-EF48-4C71-9553-75C70D0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2E9D-969E-4607-BBE2-287582B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84CC-FF17-44C6-9F46-147842D4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57A-0FCA-4905-A19B-3627455E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DA4-5AE0-4B63-B0D6-9BE3124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ADBD-0B68-4CCC-A962-91F07BA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8381-1C98-4154-B897-4A9660C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B067-5572-47A7-95D6-40BB467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4EF7-E3C3-4AF8-B8B1-6739DBC2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3E3-3172-462E-A5A8-9133362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734-6885-4AFF-9B1C-F0FE5F38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3AF-5D74-433D-A897-72355527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9A2-C54B-44D2-8D8E-6374F53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AAD-4628-45B0-9ADA-A77350A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10E-E04C-4107-A430-51A757C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456-278F-49A7-A23D-C1B4A30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025-8C26-41B2-B85D-71D9245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4B2-B37E-4A0C-B7C2-17480D290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D2F-3108-49E4-82A2-E51951FF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Microsoft Wor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d Word Process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81280" y="3428640"/>
            <a:ext cx="2895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-Deadwood Middl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3317760" cy="1305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77120" y="434340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ad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pecial area at the top of the page.  It extends across the entire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rom Menu b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choose View, then Header and Foo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9967" r="0" b="58882"/>
          <a:stretch/>
        </p:blipFill>
        <p:spPr>
          <a:xfrm>
            <a:off x="762120" y="4495680"/>
            <a:ext cx="8153280" cy="1905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52480" y="5105520"/>
            <a:ext cx="632484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7150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c Term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part of the document.  It may have unlimited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ion Point - (Curs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, blinking vertical bar.  Use the mouse to place (click) the insertion point to add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ting Characters -- ¶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where returns, tabs, and spaces are in your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 the Standard Tool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how/Hid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pell Chec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s words that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Microsoft Word di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ill suggest spellings.  You can choose to ignore or repla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hoose Tools, Spelling and Gram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OR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ton on the Standard Toolb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 underlined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in Dictiona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ords/sentences underlined in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r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grammatically corr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/Formatting T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s the character to the right of the inser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moves any graphic or text that is highlighted or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ace B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a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urn/Enter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(Same Ke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a new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/Formatting Text (cont’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ignm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y the text lines up against the margins.  Most documents have text lined up with the left marg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is align lef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ll lines are flush 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anging Alignment –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one of the buttons in the Formatting Toolb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6476" t="9568" r="53690" b="86090"/>
          <a:stretch/>
        </p:blipFill>
        <p:spPr>
          <a:xfrm>
            <a:off x="3124080" y="4343400"/>
            <a:ext cx="3353040" cy="93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81080" y="44956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409720" y="44197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286000" y="4952880"/>
            <a:ext cx="1981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248520" y="4952880"/>
            <a:ext cx="1218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4 Types of Align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ft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ll text lined up on the left side.  (Right side is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enter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All text is in the middle.  (Both sides are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 All text is lined up on the right side.  (Left side is uneve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stified or Fu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Text is lined up on both sides.  (Uneven spacing between word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in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rom the Menu Bar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, Pri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OR~ use Ctrl-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what you are printing – PowerPoint slides, handouts, charts, graphs, et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printing – is the correct printer stated?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S218La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ge Margi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area that is your border on all sides of your docu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t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hange your mar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ile, Page Setup, then change the sizes on the T,B,L,R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change the Gutter – it is always 0! (ze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ge Margin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7919" r="0" b="7590"/>
          <a:stretch/>
        </p:blipFill>
        <p:spPr>
          <a:xfrm>
            <a:off x="1295280" y="1676520"/>
            <a:ext cx="7315200" cy="4635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289548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 Setting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you to custom-set a tab stop any place in your docu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for making lists and organizing 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 T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fault)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on the lef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Tab –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on the righ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er Tab –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ext is lined up in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d Process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sed to create, modify, and print docume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00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b Settings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chang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he style you want from the upper left corner of document, next to the r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spot on the r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Remov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to the tab setting and drag it down into your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4651" r="0" b="70547"/>
          <a:stretch/>
        </p:blipFill>
        <p:spPr>
          <a:xfrm>
            <a:off x="1066680" y="5105520"/>
            <a:ext cx="76201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38080" y="533412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ulle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you to enhance a list or set of ideas in a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the Menu Ba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ormat, Bullets and Numbering, then choose style you w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OR~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ck on the bullets/numbering button on the formatting tool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rid of bullets: place cursor in text, click on bullets button to turn it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21304"/>
                </a:solidFill>
                <a:latin typeface="Times New Roman"/>
              </a:rPr>
              <a:t>Task Bar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you what documents you have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 B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you how many pages you have in your docum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87690" r="0" b="0"/>
          <a:stretch/>
        </p:blipFill>
        <p:spPr>
          <a:xfrm>
            <a:off x="685800" y="3581280"/>
            <a:ext cx="8229600" cy="78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0" t="87690" r="72978" b="0"/>
          <a:stretch/>
        </p:blipFill>
        <p:spPr>
          <a:xfrm>
            <a:off x="4572000" y="4800600"/>
            <a:ext cx="4114800" cy="1406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5638680" y="2286000"/>
            <a:ext cx="2743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057040" y="3200400"/>
            <a:ext cx="3429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724280"/>
            <a:ext cx="3200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Page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Number of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5029200"/>
            <a:ext cx="3353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5943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086240" y="571464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pArt/Graphic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Insert ClipAr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Picture, Cli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clip gallery or u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ps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Insert Graphic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ert, Picture, From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the path to your folder and choose graphic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Format your ClipArt/Graph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elect picture, Format, Picture, choose Layout Tab, select Square or Tight Wrapp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you can move it all around your docu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dArt/AutoShap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ng out Drawing Toolbar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, Toolbars, Dra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Blue, slanted ”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style, type text, select 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your own graphics with AutoShap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AutoShapes, choose shape, click and dra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mat: Format, AutoShape, then select fill col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629400" y="2286000"/>
            <a:ext cx="1685880" cy="75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Forte"/>
              </a:rPr>
              <a:t>Word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Forte"/>
              <a:ea typeface="Forte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2895480"/>
            <a:ext cx="990360" cy="10670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e1c01b"/>
              </a:gs>
              <a:gs pos="100000">
                <a:srgbClr val="fefd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c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tle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ross the top of your window.  Tells you what program you are using (and title of documen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cross the top of your window.  Contains a set of commands for you to tell the computer what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52346" b="92947"/>
          <a:stretch/>
        </p:blipFill>
        <p:spPr>
          <a:xfrm>
            <a:off x="1143000" y="5334120"/>
            <a:ext cx="7543800" cy="83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8120" y="2057400"/>
            <a:ext cx="10666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47760" y="3657600"/>
            <a:ext cx="152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ndard Toolb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the buttons you most often use in Microsof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5862" r="35937" b="89954"/>
          <a:stretch/>
        </p:blipFill>
        <p:spPr>
          <a:xfrm>
            <a:off x="1066680" y="2819520"/>
            <a:ext cx="7772400" cy="38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657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3657600"/>
            <a:ext cx="1905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ase DO NOT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294920" y="3123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00200" y="30481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209320" y="3048120"/>
            <a:ext cx="4496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638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638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638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   Show/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676520" y="312408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971800" y="312408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352320" y="3124080"/>
            <a:ext cx="175284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657600" y="3124080"/>
            <a:ext cx="2819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123720"/>
            <a:ext cx="20574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200400" y="3123720"/>
            <a:ext cx="129528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876560" y="3123720"/>
            <a:ext cx="2286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705720" y="3123720"/>
            <a:ext cx="11430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P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42840" y="31240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391520" y="3124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matting Tool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you to FORMAT/enhance your documents. It enhances th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9568" r="32814" b="86090"/>
          <a:stretch/>
        </p:blipFill>
        <p:spPr>
          <a:xfrm>
            <a:off x="990720" y="2438280"/>
            <a:ext cx="7848360" cy="381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6720" y="3276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680" y="327672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8200" y="3276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4560" y="40384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a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038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der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360" y="4038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6000" y="502920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029200"/>
            <a:ext cx="10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5680" y="49528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7913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676520" y="26665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962520" y="27428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4495680" y="26665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81080" y="2666880"/>
            <a:ext cx="2819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67080" y="27432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3623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019920" y="29714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09680" y="2743200"/>
            <a:ext cx="42674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2743200"/>
            <a:ext cx="26668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400800" y="2743200"/>
            <a:ext cx="1600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77120" y="2743200"/>
            <a:ext cx="19810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800" y="2895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4880" y="1189080"/>
            <a:ext cx="54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lease label this on the VERY back page – use the bottom window pi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160" y="30481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you to change the size of the space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either Single, 1.5, or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s mo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commonly used in report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Format Line Spac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ext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Menu Bar choose:  Format, Paragraph</a:t>
            </a:r>
            <a:r>
              <a:rPr b="0" i="1" lang="en-US" sz="29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spacing you want from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e Spac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gle Sp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(SS) No blank lines between typed li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apar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– (Soft Retur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mputer automatically moves your text to a new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want to do this, unless it shows/tells you to! (DO NOT use return key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d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 hit enter/return and tell the computer to start a new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see them with the ¶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uble Space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 Return is when you press ENTER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 line spacing is one blank line in-between typed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uple Space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 Return is when you press ENTER 4 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QS Line spa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ne Spacing (continue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4600" y="464832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50292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657600"/>
            <a:ext cx="533160" cy="914400"/>
          </a:xfrm>
          <a:custGeom>
            <a:avLst/>
            <a:gdLst>
              <a:gd name="textAreaLeft" fmla="*/ 0 w 533160"/>
              <a:gd name="textAreaRight" fmla="*/ 192600 w 533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20040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3:42:57Z</dcterms:created>
  <dc:creator>Joshua and Lenessa Keehn</dc:creator>
  <dc:description/>
  <dc:language>en-US</dc:language>
  <cp:lastModifiedBy>LDSD</cp:lastModifiedBy>
  <dcterms:modified xsi:type="dcterms:W3CDTF">2010-02-11T15:58:10Z</dcterms:modified>
  <cp:revision>83</cp:revision>
  <dc:subject/>
  <dc:title>PowerPoint Presentation</dc:title>
</cp:coreProperties>
</file>